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AA34-0845-4395-9716-D745D8D2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B5A1-0800-4AE2-B7B2-C8AFFD78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9C1-7FC1-4796-90D9-289D06A3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15E-7C43-48AF-AAEF-B4809AED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77C-017E-4177-A607-708CF7CC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782-CD76-4241-86CF-4352E670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09E3-A7FE-4FE6-9BE6-CCA031DC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9B52-6B16-4817-B79C-DBFC9DD0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E67F-74FA-4161-A9C1-FE56C089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2679-B89D-49D2-A1F3-CB2B6E47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B529-985F-47B6-B294-71DCCC8D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9465-2A8E-491E-9756-5C2468C3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847C-C9A8-4FB2-AC77-092C7006F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ttp//www.grist.org/phpThumb/phpThumb.php?src=http://www.grist.org/phpThumb/phpThumb.php?src=http://www.grist.org/i/assets/infographics/nitrogen_pathway.jpg&amp;w=615&amp;q=90&amp;w=615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2840" y="685800"/>
            <a:ext cx="662940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Element: Nitrog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ment Symbol: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AKOB ARENT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Ashley 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[Bohr Model of Nitrogen]"/>
          <p:cNvPicPr/>
          <p:nvPr/>
        </p:nvPicPr>
        <p:blipFill>
          <a:blip r:embed="rId1"/>
          <a:stretch/>
        </p:blipFill>
        <p:spPr>
          <a:xfrm>
            <a:off x="0" y="0"/>
            <a:ext cx="3581280" cy="35481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hysical and Chemical Properties of Nitro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- Color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of mater at room temp-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sity- 1.2506 g/c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ting Point- -209.9 °C (63.250008 K, -345.81998 °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iling Point-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195.8 °C (77.35 K, -320.44 °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or- No o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ure-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mmability- Not flamm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reactive is it- very little reactions (not very rea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5343480"/>
            <a:ext cx="3353040" cy="1514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odic Tabl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Element-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#- 7 protons and 7 neu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Mass- 14.00674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and Group #- Period 2 group Nitrogen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 configuration and Valence Electrons- [He] 2s^2 2p^3, has 5 valenc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- Nitrogen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" y="4205160"/>
            <a:ext cx="3809880" cy="214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5268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Nitr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 was originally discovered by a Scottish chemist, Daniel Rutherford, in 1772.  Scotland today mainly produces: Fur, Textiles, Metals, and Metal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 is found in the air and is obtained by cooling, pressing and expanding air and then you get liquid nitr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46875" t="32293" r="0" b="6251"/>
          <a:stretch/>
        </p:blipFill>
        <p:spPr>
          <a:xfrm>
            <a:off x="6172200" y="5105520"/>
            <a:ext cx="2666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Nitr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experience nitrogen everyday whether its in the air you’re breathing or using it as fertilizer for food and pl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6705360" cy="27651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hemicalelements.com/elements/n.htm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hemistryexplained.com/elements/L-P/Nitrogen.htm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16:00:53Z</dcterms:created>
  <dc:creator>xpstudent</dc:creator>
  <dc:description/>
  <dc:language>en-US</dc:language>
  <cp:lastModifiedBy>xpstudent</cp:lastModifiedBy>
  <dcterms:modified xsi:type="dcterms:W3CDTF">2010-12-23T16:33:40Z</dcterms:modified>
  <cp:revision>4</cp:revision>
  <dc:subject/>
  <dc:title>My Element: Nitrogen  Element Symbol: N</dc:title>
</cp:coreProperties>
</file>